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F53-5E6F-46A9-A47F-8184C2DD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D27-E247-44D1-BC94-817991B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CB3-2C21-431F-9ECC-32B62A7D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2F9-102E-446D-8EB6-41BA6C37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7674-C7A7-449C-8F31-FBE2640D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56A5-9B50-4F4E-9108-C7DBEDA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660C-795A-45FC-9340-C0652C7E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87D-CB35-4D76-8083-540E3B52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3857-99D9-4E56-9243-94C522AE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DC30-F00F-48F9-B990-F316C97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5C4-EDFB-4002-AE18-8C92785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30F-D357-4187-97BF-D3BB41F8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EBB-B74B-4053-932E-FA3D1F2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403-6261-455F-B33B-E2A06E8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FE01-FBE9-4F4B-BDB2-302EB824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948-934F-4813-83BF-6BC6BAAA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E61-DBB2-4296-8E54-C2822B9C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37C-C77E-4054-856A-13D1C6AE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54D-E13C-4B36-AC4A-3394E388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6E3-EE42-440F-A9D9-D26AA4A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B27-08AB-414F-BEC5-EE50C4A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12E-B0D6-4469-A538-A7942C4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E54-A3FD-4E3E-A6DC-300501F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0BC-A5A7-45CC-ADA9-86B28DB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E066-C473-4518-8261-9A9CCBAC915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3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EDAB-50A6-4A48-8978-E10E750E65A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 and the New Wor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ncounters, 1500 - 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French and the British in Ind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ughal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act of the Western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tch and the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r Robert C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le of Plassey (175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ina &amp; Japa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695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g Dynasty (1369 – 16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ing Dyn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ern In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s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gun Tokugawa Ieyasu (1543 – 16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o th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rtugu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 visitors welco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meric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in and Portu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 In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and 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ugar Facto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estown (16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teen Colo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astating effects to local populations in America and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impact in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racial society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holic Miss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native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s, orphanages and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esuits in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s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Impact of European Expansion: The Conqueror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ies fo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Si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of plants and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bia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n European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colate, Coffee and 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ival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iews of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rdus Mercator (1512 – 1594) and his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Global Patterns of the European States in the Eighteenth Century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Picture 4" descr="WCB3e_m14"/>
          <p:cNvPicPr/>
          <p:nvPr/>
        </p:nvPicPr>
        <p:blipFill>
          <a:blip r:embed="rId1"/>
          <a:stretch/>
        </p:blipFill>
        <p:spPr>
          <a:xfrm>
            <a:off x="-6667560" y="-4038480"/>
            <a:ext cx="22479120" cy="1493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WCB3e_m14"/>
          <p:cNvPicPr/>
          <p:nvPr/>
        </p:nvPicPr>
        <p:blipFill>
          <a:blip r:embed="rId2"/>
          <a:stretch/>
        </p:blipFill>
        <p:spPr>
          <a:xfrm>
            <a:off x="990720" y="1174680"/>
            <a:ext cx="786420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ward a World Econom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Conditions in the Sixteen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wth of Commercial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stock trading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economic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nk of Ams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sterdam Bourse (Exch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rcantili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volume of trade unchan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activity = war through peaceful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of bullion and favorable balance of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terven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Overseas Trade and Colonies: Movement Toward Globaliza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oceanic trade very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 European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patterns interlocked Europe, Africa, the East and the Ame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523880"/>
            <a:ext cx="7769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 Portuguese so well positioned for overseas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Spanish able to defeat the Azte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cial and economic forces drove the Slave Tra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the British able to achieve such a dominant position in As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mpact did European colonization have on the coloniz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conomic changes occurred in Europe as a result of Mercantilism and Capit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the Brink of a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es and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vels of John Mandeville (14th centu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th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Mo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us Z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Monar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olemy’s Geography (14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eb Li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Voyages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e of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outh Asia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ound the Indus in 90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ast Asian History Source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 Indi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Jamest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Horizons: The Portuguese and Spanish Empi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 Henry the Navigator (1394 – 14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velopment of a Portuguese Maritim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holomeu 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o da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s India by rounding Cape of Good H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onso d’Albuquerque (1462 – 15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– Military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Portugues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ma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Discoveries and Possessions in the Fifteenth and Sixteenth Centurie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4" name="Picture 5" descr="WCB3e_m14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yages of the New Worl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6761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opher Columbus (1451 – 15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d the Bahamas (Oct. 12, 14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voyages (1493, 1498, and 15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iscov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Ca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Cab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go Vespu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˜ez de Balb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dinand Magellan (1480 – 15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mnavigates th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y of Tordesillas (14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in the New Worl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Civilizations in Mesoame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zt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Conquest of the Aztec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nan Cortés (1485 – 15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tezuma (Montezu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tec Empire over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 Spanish Empire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Cont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a and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hak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isco Pizarro (c. 1475 – 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as overthrown (1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on of the Spanish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r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frica: The Slave Tra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Cane and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in the Slav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10,000,000 African slaves taken to the Americas between the Sixteenth and Nineteenth Cent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ath rate during tran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ers of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pulation of African king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al effects of slav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ism of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of Friends = Qu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West in Southeast As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utch and the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Kingdoms (Burma, Siam, and Vietn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23:26:42Z</dcterms:created>
  <dc:creator>Darlene L. Wise</dc:creator>
  <dc:description/>
  <dc:language>en-US</dc:language>
  <cp:lastModifiedBy>Balazs, Stephen</cp:lastModifiedBy>
  <dcterms:modified xsi:type="dcterms:W3CDTF">2014-10-26T14:40:46Z</dcterms:modified>
  <cp:revision>200</cp:revision>
  <dc:subject/>
  <dc:title>Chapter 14</dc:title>
</cp:coreProperties>
</file>